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1E0-091A-4782-9CB4-31C15D81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C05-1CF6-4204-81E1-BFBF89B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3FD-021B-4037-8C04-12CCD3BC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0B6-E460-4429-B75B-8B9803F7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893-383E-4F99-9943-6F8CE79E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363-75C9-405E-BA7E-2279373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358-4617-4ACB-982F-611F9EC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A64-1C8A-4D94-A2AF-0A35AFF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009-B97E-4323-8AD5-F7A0B9F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89B-3FCF-4CB4-80A3-43BFB5E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0CE-5655-48BE-9B21-E42389D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A45-D211-4BDA-9464-E9F2BDA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872-9C71-443E-B7BF-C5F930742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3"/>
          <p:cNvSpPr/>
          <p:nvPr/>
        </p:nvSpPr>
        <p:spPr>
          <a:xfrm>
            <a:off x="58672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2362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55520" y="84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1"/>
          <a:stretch/>
        </p:blipFill>
        <p:spPr>
          <a:xfrm>
            <a:off x="307800" y="344520"/>
            <a:ext cx="84553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3"/>
          <p:cNvSpPr/>
          <p:nvPr/>
        </p:nvSpPr>
        <p:spPr>
          <a:xfrm>
            <a:off x="5867280" y="4524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2362320" y="4600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867280" y="322884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Vater ist links neben MEINEM V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14400" y="28479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Bruder ist über MEINEM Op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4120" y="11714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e Mutter ist über MI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657600" y="55911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Onkel ist links neb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ER Om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28440" y="0"/>
            <a:ext cx="8991720" cy="681192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2"/>
          <a:stretch/>
        </p:blipFill>
        <p:spPr>
          <a:xfrm>
            <a:off x="7699320" y="2932200"/>
            <a:ext cx="1438200" cy="15606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5" descr=""/>
          <p:cNvPicPr/>
          <p:nvPr/>
        </p:nvPicPr>
        <p:blipFill>
          <a:blip r:embed="rId3"/>
          <a:stretch/>
        </p:blipFill>
        <p:spPr>
          <a:xfrm>
            <a:off x="-225360" y="2932200"/>
            <a:ext cx="1322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7:03:56Z</dcterms:created>
  <dc:creator>tmsadmin</dc:creator>
  <dc:description/>
  <dc:language>en-US</dc:language>
  <cp:lastModifiedBy>Alissa Hart</cp:lastModifiedBy>
  <dcterms:modified xsi:type="dcterms:W3CDTF">2015-03-25T19:23:30Z</dcterms:modified>
  <cp:revision>17</cp:revision>
  <dc:subject/>
  <dc:title>Slide 1</dc:title>
</cp:coreProperties>
</file>